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1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DF7D-9E8A-431B-97CE-D2D2FAF4E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7867-075F-4D7B-9AA3-6752218F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58B99-8A72-4788-9418-2BCA594F6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74280" y="4681080"/>
            <a:ext cx="53895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D2AA-CB21-4AD1-B568-30B2F1880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35274-17A7-4BA1-B8FB-CABC9A7621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0DF37-73B5-4067-9930-A2347C334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BB86-2F86-4712-B6B6-BB3018963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64CF5-2BCA-429E-96B1-FAE16873C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74280" y="4681080"/>
            <a:ext cx="53895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91EF-F8B9-44B8-89E2-356B3C81F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7920" y="739800"/>
            <a:ext cx="49294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5F7C-2126-4B96-B302-36F5ED664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7AA9D-C109-4C1D-91D7-795294FB88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3920" y="739800"/>
            <a:ext cx="44974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A008-6DC2-4295-B77D-FE984DAC7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1960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998B1-4BAD-4B69-AB84-FD080EFB1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93614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1960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85680" y="749160"/>
            <a:ext cx="477072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74280" y="4681080"/>
            <a:ext cx="53895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6B35-DB54-4CC5-AB92-EAB7CF7A1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23920" y="739800"/>
            <a:ext cx="4495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74280" y="4681080"/>
            <a:ext cx="53895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DDAF-B19F-4541-BACA-A3BF7D5BD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E6720-D90A-4DEB-AF46-32661A34E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3C598-50C2-4771-A057-1193B56C72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629B-8167-4CB1-AB0F-0BE5D8021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9C12C-4A07-40EE-B202-F01CCF8B3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21040" y="936000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CAA1B-AB41-4C1A-8597-9074F3442F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93600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21040" y="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85680" y="749160"/>
            <a:ext cx="4772160" cy="36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2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53C-5E7B-4C48-A431-92D076D5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2E1-918C-4780-BB47-DF8B317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3FB-CD7C-424A-947D-5622A869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47D-B3D7-4721-836E-85FCD038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A91-7EC3-4E6D-8A03-FD2F93CB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BB5-6D13-4EFB-8850-176CE655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1D8-796D-4A0E-9D62-014B1522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CCF-4359-47FF-ADEA-F559311C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02A-AAB5-46D1-B559-8F986D05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A49-3139-4866-88BA-31334E8C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0DF-6ED6-4D5A-A548-BE7F617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38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023-C732-413A-B15A-127929FD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30320" y="6059520"/>
            <a:ext cx="901368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7520"/>
            <a:ext cx="11430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520" y="6527520"/>
            <a:ext cx="45720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480" y="6527520"/>
            <a:ext cx="9144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Slide #: </a:t>
            </a:r>
            <a:fld id="{331F3C68-A8B8-4681-837F-B4EC75DD502C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000760"/>
            <a:ext cx="8915400" cy="1724040"/>
            <a:chOff x="228600" y="5000760"/>
            <a:chExt cx="8915400" cy="1724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886200" y="5051520"/>
              <a:ext cx="525780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28600" y="5000760"/>
              <a:ext cx="38098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jpe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 Annual Review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- 2007 April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ReS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IVE, Coordinating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28880" y="1376280"/>
          <a:ext cx="7199280" cy="44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376280"/>
                    <a:ext cx="719928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Connectivity statu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0720" y="1271520"/>
            <a:ext cx="76741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o major changes in deliv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st partners have lower costs, as exp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tal SA2 cost lowered from 7.8 M€ to 6.9 M€ (savings of 0.9 M€). EC contribution is 0.8 M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easibility studies (no cost item) finished for European partners; international part for non-EU partners still ong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or infrastructures to be available in 2007 (MPI, CNI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prospects for non-EU partners to reach Europe (CSIRO, HRAO, ShAO, TIGO, NAI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9052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3780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936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:00-09: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s /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09:30-11:00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EXPReS Summary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1/NA2/NA3/NA4- Network Activities 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1- Production e-VLBI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2- Network Provision for a Global e-VLBI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20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JRA1- Future Arrays of Broadband Radio Telescop on Internet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00-11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15-11: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User: Benefits and capabilities of e-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45-12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nts from E.C. on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:30-13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CA3-F92D-4204-8FD4-E7D899DFCBC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Questions/Answer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Charles Y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(J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yun at jive dot 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xpres-eu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e: only one “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ive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 is made possible through the support of the European Commission (DG-INFSO), Sixth  Framework Programme, Contract #0266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DEB-659B-4A48-9132-EB1B265B9A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PRe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27520" y="1460520"/>
            <a:ext cx="1488960" cy="444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21049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523880" y="2144880"/>
            <a:ext cx="849600" cy="534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666880" y="2236680"/>
            <a:ext cx="901800" cy="352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809880" y="2209680"/>
            <a:ext cx="836640" cy="405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876920" y="2268360"/>
            <a:ext cx="888840" cy="287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6019920" y="2260440"/>
            <a:ext cx="1508040" cy="360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7802640" y="1981080"/>
            <a:ext cx="73188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685800" y="3110040"/>
            <a:ext cx="849240" cy="587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1752480" y="3193920"/>
            <a:ext cx="2246400" cy="590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338720" y="294624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kk-ctv-eng" descr=""/>
          <p:cNvPicPr/>
          <p:nvPr/>
        </p:nvPicPr>
        <p:blipFill>
          <a:blip r:embed="rId12"/>
          <a:stretch/>
        </p:blipFill>
        <p:spPr>
          <a:xfrm>
            <a:off x="5257800" y="3119400"/>
            <a:ext cx="2290680" cy="66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tretch/>
        </p:blipFill>
        <p:spPr>
          <a:xfrm>
            <a:off x="7767720" y="30956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tretch/>
        </p:blipFill>
        <p:spPr>
          <a:xfrm>
            <a:off x="587520" y="4165560"/>
            <a:ext cx="874440" cy="914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1882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3025800" y="4203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tretch/>
        </p:blipFill>
        <p:spPr>
          <a:xfrm>
            <a:off x="4241880" y="4237200"/>
            <a:ext cx="614160" cy="771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8"/>
          <a:stretch/>
        </p:blipFill>
        <p:spPr>
          <a:xfrm>
            <a:off x="5235480" y="439416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9"/>
          <a:stretch/>
        </p:blipFill>
        <p:spPr>
          <a:xfrm>
            <a:off x="6835680" y="4459320"/>
            <a:ext cx="1698840" cy="326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168120"/>
            <a:ext cx="876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0"/>
          <a:stretch/>
        </p:blipFill>
        <p:spPr>
          <a:xfrm>
            <a:off x="4038480" y="54100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9E0-30C5-447F-8C20-449A4D9188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Financial status (1</a:t>
            </a:r>
            <a:r>
              <a:rPr b="0" lang="en-GB" sz="4000" spc="-1" strike="noStrike" baseline="33000">
                <a:solidFill>
                  <a:srgbClr val="333399"/>
                </a:solidFill>
                <a:latin typeface="Times New Roman"/>
              </a:rPr>
              <a:t>st</a:t>
            </a: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 Year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3360" y="1131840"/>
            <a:ext cx="8037360" cy="48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:00-09: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s /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09:30-11:00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EXPReS Summary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1/NA2/NA3/NA4- Network Activities 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1- Production e-VLBI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20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SA2- Network Provision for a Global e-VLBI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RA1- Future Arrays of Broadband Radio Telescop on Internet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00-11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15-11: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User: Benefits and capabilities of e-V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:45-12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nts from E.C. on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:30-13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:15-14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Overview for P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00-15: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 of project next 1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:15-16: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00-16: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r Inter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20-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eedback to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: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 / End of First Yea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76920" y="4714920"/>
            <a:ext cx="426708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583-4062-4538-8ACF-0BF5A81243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3428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- Looking Dow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627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5791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rtesy of Paul Boven and Google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A2: Past 12 Month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033-6527-44E3-9789-AF593245BD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SA2- Network Provisioning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 institutions, operating 21 radiotele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rdination of work and funding at participant n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year is a learning experience, in particular for non-EU partners (China, Australia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C partial funding (8.75:1 in proposal) acts as a great catalyst of work and national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y uneven cost in Years 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year at very lower cost (most deliverables are no-cost feasibility stud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/more participants are able to obtain better deals for cheaper/fre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0 telescopes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6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Other infrastructures delivered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A2: Past 12 Month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CAF-6DCA-481C-A9CC-F11A3F244A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ite Connectivity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73220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28600" y="5716440"/>
            <a:ext cx="2841120" cy="609840"/>
            <a:chOff x="228600" y="5716440"/>
            <a:chExt cx="2841120" cy="609840"/>
          </a:xfrm>
        </p:grpSpPr>
        <p:sp>
          <p:nvSpPr>
            <p:cNvPr id="104" name=""/>
            <p:cNvSpPr/>
            <p:nvPr/>
          </p:nvSpPr>
          <p:spPr>
            <a:xfrm>
              <a:off x="228600" y="571644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3000" y="5884920"/>
              <a:ext cx="210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Gbps connected s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274200" y="5715000"/>
            <a:ext cx="2904480" cy="609480"/>
            <a:chOff x="3274200" y="5715000"/>
            <a:chExt cx="2904480" cy="609480"/>
          </a:xfrm>
        </p:grpSpPr>
        <p:sp>
          <p:nvSpPr>
            <p:cNvPr id="107" name=""/>
            <p:cNvSpPr/>
            <p:nvPr/>
          </p:nvSpPr>
          <p:spPr>
            <a:xfrm>
              <a:off x="5568840" y="5715000"/>
              <a:ext cx="609840" cy="609480"/>
            </a:xfrm>
            <a:prstGeom prst="ellipse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4200" y="5883120"/>
              <a:ext cx="222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 Gbps connected s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25520" y="1695600"/>
            <a:ext cx="689040" cy="688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760" y="3409920"/>
            <a:ext cx="68868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54080" y="2252520"/>
            <a:ext cx="1343160" cy="895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27160" y="3499920"/>
            <a:ext cx="869760" cy="171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A2: Past 12 Month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4720" y="1182600"/>
            <a:ext cx="68868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3080" y="4756320"/>
            <a:ext cx="689040" cy="688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1193760"/>
            <a:ext cx="689040" cy="689040"/>
          </a:xfrm>
          <a:prstGeom prst="ellipse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40200" y="1173240"/>
            <a:ext cx="68904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92440" y="1193760"/>
            <a:ext cx="68904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880" y="4255920"/>
            <a:ext cx="68904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5520" y="2554200"/>
            <a:ext cx="68904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6320" y="4757760"/>
            <a:ext cx="689040" cy="689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1828800"/>
            <a:ext cx="733320" cy="1200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31680" y="1828800"/>
            <a:ext cx="925560" cy="1265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78040" y="1752480"/>
            <a:ext cx="2198880" cy="1581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514240" y="3908520"/>
            <a:ext cx="1676520" cy="968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47920" y="3429000"/>
            <a:ext cx="771480" cy="1371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90720" y="3472920"/>
            <a:ext cx="1000080" cy="870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971800"/>
            <a:ext cx="8701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F07-EF9B-4B10-BCAC-5ED6B84FD6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 SA2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pack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P1: Feasibility study of last-mile connection of telescopes to JIVE via GÉA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P2: Provision of the infrastructure and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P3: Connectivity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rastructures ready for 9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x telescopes operating routinely at 256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Network structure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38240" y="1285920"/>
            <a:ext cx="7066080" cy="4741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168120"/>
            <a:ext cx="822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A2: Past 12 Month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45C-6AC5-4052-860A-247BDCAA13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N 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vious to EXPReS SA2: Connection ready for JIVE to: Westerbork, Onsala, Torun, Jodrell Bank, Medicina, M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shed for all EU sites: MPIfR, CNIG-IGN, M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vi, VI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PIfR and CNIG-IGN will connect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cina integrated in e-VLBI network in Aug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ine operations achieved up to 256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42440"/>
            <a:ext cx="8234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EXPReS SA2 Achievement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6080" y="1369800"/>
            <a:ext cx="8234280" cy="54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N non-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shed, but international part ongoing: ShAO, NAIC, HR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ning tests for MRO, ShAO, N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7000"/>
              </a:lnSpc>
              <a:buNone/>
              <a:tabLst>
                <a:tab algn="l" pos="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312840"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 EV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shed for non-EU sites, but international part ongoing: CSIRO, 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ity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57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9178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ning tests for CS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ReS Annu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 April 1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7:40:25Z</dcterms:created>
  <dc:creator>Kristine Yun</dc:creator>
  <dc:description/>
  <dc:language>en-US</dc:language>
  <cp:lastModifiedBy>tcyun</cp:lastModifiedBy>
  <dcterms:modified xsi:type="dcterms:W3CDTF">2007-04-16T20:36:02Z</dcterms:modified>
  <cp:revision>105</cp:revision>
  <dc:subject/>
  <dc:title>Slide 1</dc:title>
</cp:coreProperties>
</file>